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DA98-4805-45F4-B90B-B7B55C43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403-2AE1-4346-9025-5EBAC893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C7F-6EAF-4B32-B18C-F17A36E4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681-FA38-49E2-AE2B-3FD543F4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F9B-CC5B-428D-9703-C44666C7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8242-E43C-4BE5-9F19-83689B44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721-416D-4C04-BE70-EAE9B1D6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804-232F-4735-9D96-01C07992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9E7-AB38-492C-9364-6B5E5420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A74-7AD4-4D93-A060-81E499B1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1831-04AC-4DC9-B0FF-9BA07496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D91-D5F8-4AC8-AE19-BE7F156F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144E-C429-4313-8713-B808BAC71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Taskrendszerek determinizmusa, Taskrendszerek holtpont állap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sztá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ktumok felépítését az osztályok definíciója határozza meg. Osztályok között a hagyományos értelemben vett öröklődés lehetséges. Ekkor a gyermekosztály az őstől minden attribútumot és metódust örököl. Az alosztályban további komponensek vehetőek fel és a metódusok átírható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kt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zoftverobjektum olyan definíció, mely megkísérli teljes mértékben lefedni egy probléma megoldását. Tartalmaz adatokat és algoritmusokat. Az "objektum" fogalma nem ismeretlen a programozó számára, hiszen egy objektumként tekinthető egy teljes program is; tartalmaz adatokat és algoritmusokat és egy probléma teljes megoldására töreksz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első adatobjektumok egy programban hozhatjuk létre és csak ezen a programon belül van érvényük. Ilyen objektumok lehetnek literálok, változók és konstanso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külső adatobjektumok a programunktól függetlenül léteznek, de nem lehet velük közvetlenül dolgozni. Másolatot kell készíteni róluk egy belső objektumba és onnan a megfelelő módosítások után, kiírhatju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lajdonsá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 egy "képletes" értelmű fogalom, az objektumokkal kapcsolatban általában egy objektum adatmezőinek és metódusainak összességét jelen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ód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Így hívják az objektumokban leírt, definiált eljárásokat és függvényeket (tehát mind a függvényeknek, mind az eljárásoknak közösen metódus a nev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röklődé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objektumok azon tulajdonsága, hogy egy másik objektum adatmezőit és metódusait "veheti át". Ilyenkor a leszármazott objektumtípus adatmezői és metódusai, kiegészül az őstípusév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tatikus objekt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objektum, amely csak statikus metódusokkal rendelkezik, azaz amely nem tartalmaz virtuális objektum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inamikus objekt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objektum számára memóriaterületet constructorral foglalunk és destruktorral szabadítjuk fel a foglalt területet. Osztály objektum esetén a hagyományos new és dispose memóriakezelő eljárások nem használható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Fogalma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Objektumok hierarchiáj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zármaztatott osztálynak csak egyetlen közvetlen őse lehet. Itt az egyedi osztályok helyett az egymásra épülő osztályok hierarchiája biztosítja az objektumorientált megközelítés előnye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Polimorfizmu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adott metódus azonosítója közös lehet egy adott objektumhierarchián belül, ugyanakkor a hierarchia minden egyes objektumában a tevékenységeket végrehajtó metódus implementációja az adott objektumra nézve specifikus lehet (Pl: virtuális metódusok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2a250c"/>
                </a:solidFill>
                <a:uFillTx/>
                <a:latin typeface="Arial"/>
              </a:rPr>
              <a:t>Taskrendszerek determinizmusa, Taskrendszerek holtpont állapota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oltpo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oltpont akkor keletkezik egy multitaskingos operációs rendszerben, amikor egy folyamat olyan számára szolgáltatást nyújtó folyamatra vár, mely éppen futás közben van, de ős is egy rendszer másik futó folyamatára várakoz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ialakulásának feltétele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lcsönös kizárás (Folyamatok melyek erőforrásokat kizárólagosan használna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oglalva várakozás (Folyamatok, melyek lefoglalva tartanak más folyamatokat várakozás közbe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Körkörös várakozás (egy folyamsorozat kialakulása, ahol egy folyamat mindig az időben meghívott előtte lévő folyamatra vá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 u="sng">
                <a:solidFill>
                  <a:srgbClr val="2a250c"/>
                </a:solidFill>
                <a:uFillTx/>
                <a:latin typeface="Arial"/>
              </a:rPr>
              <a:t>Taskrendszerek determinizmusa, Taskrendszerek holtpont állapota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Determinizmus: (Folyamatok terminálása holtpont eseté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ltpontban résztvevő folyamatok futásnak megszakítása (eredmények elveszté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olyamatok egyesével való megszűntetése a holtpont megszűnésé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őforrások elvétele a holtpontban lévő folyamatokt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Állapotjelzők visszaállítása, törekvés a folyamatok által elvégzett műveletek eredményeinek megőrzésé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Operációs rendszerek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zközök és folyamatok vezérlés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250c"/>
                </a:solidFill>
                <a:latin typeface="Arial"/>
              </a:rPr>
              <a:t>Megszakítás elve, folyamata, prioritások: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gszakítá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egszakítás bekövetkezésekor az éppen futó programtól a vezérlés ideiglenesen átadódik egy másik program számára, amely kiszolgálja a bekövetkezett eseményt. A megszakítást kiszolgáló program lefutása után pedig a megszakított program végrehajtása a következő utasításától kezdve folytatód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250c"/>
                </a:solidFill>
                <a:latin typeface="Arial"/>
              </a:rPr>
              <a:t>Megszakítás elve, folyamata, prioritások: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yamat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amilyen egység, vagy alkalmazás megszakítási kérelmet küld az operációs rendszerne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nek hatására elindul az operációs rendszer megszakítást kezelő rutin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veszi az erőforrásokat és a támogató folyamatokat az alkalmazástó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cializálja az alkalmazás éppen futó algoritmusa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szaadja a vezérlést az alkalmazásna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250c"/>
                </a:solidFill>
                <a:latin typeface="Arial"/>
              </a:rPr>
              <a:t>Megszakítás elve, folyamata, prioritások: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DMA eszközök:</a:t>
            </a: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DMA (Direct Memory Access) egy speciális elem a PC-ben, amely a tároló és a perifériák közti gyors adatátvitelt szolgálja. Ilyenkor nem a processzor, hanem a DMA vezérlő tartja a kezében az adat-, cím-, és vezérlővezetékeke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redeti PC-ben egy darab Intel 8237 típusú elem látta el ezt a feladatot, az AT-ben már két ilyen vezérlő volt, amellyel 4-ről 7-re nőtt a kezelhető csatornák szá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ső vezérlőt Master-nek (mester), a másodikat Slave-nek (szolga) nevezzük. A DMA vezérlőben 64 Kbyte nagyságú adatokat lehet mozgatni. Az adatmozgás sebessége körülbelül hatszor akkora, mintha a processzor végezné a művelet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250c"/>
                </a:solidFill>
                <a:latin typeface="Arial"/>
              </a:rPr>
              <a:t>Megszakítás elve, folyamata, prioritások:</a:t>
            </a:r>
            <a:endParaRPr b="0" lang="en-US" sz="40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dszerhívások mechanizmus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 operációs rendszerek a felhasználói programok elől eltakarják a géphez kapcsolt "nyers" hardver részleteket, egy köztes kommunikációs felület biztosítja a kapcsolattartást. Ezen a felületen keresztül a kapcsolattartás, a rendszer szolgáltatásainak igénybevételének eszközei a rendszerhívás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ípu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yamatokat kezelő rendszerhív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ájlrendszer rendszerhívás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apvető, fájlokkal kapcsolatos rendszerhív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fájlrendszer és a memóriakezelő kapcsol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yéb, fájlokkal kapcsolatos rendszerhívás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ájlok konkurens elér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vételes események kezelésének rendszerhívás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1f00"/>
            </a:gs>
            <a:gs pos="50000">
              <a:srgbClr val="d3a219"/>
            </a:gs>
            <a:gs pos="100000">
              <a:srgbClr val="5c1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bjektum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rientált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P</a:t>
            </a:r>
            <a:r>
              <a:rPr b="0" lang="en-US" sz="4400" spc="-1" strike="noStrike">
                <a:solidFill>
                  <a:srgbClr val="2a250c"/>
                </a:solidFill>
                <a:latin typeface="Arial"/>
              </a:rPr>
              <a:t>rogramozás</a:t>
            </a:r>
            <a:endParaRPr b="0" lang="en-US" sz="4400" spc="-1" strike="noStrike">
              <a:solidFill>
                <a:srgbClr val="2a250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08:37:49Z</dcterms:created>
  <dc:creator>Nagymáté Péter</dc:creator>
  <dc:description/>
  <dc:language>en-US</dc:language>
  <cp:lastModifiedBy>Nagymáté Péter</cp:lastModifiedBy>
  <dcterms:modified xsi:type="dcterms:W3CDTF">2004-06-01T08:59:09Z</dcterms:modified>
  <cp:revision>7</cp:revision>
  <dc:subject/>
  <dc:title>Objektum Orientált Programozás</dc:title>
</cp:coreProperties>
</file>